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172-4014-4727-8105-71A2BBD6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26A-5895-49DC-9F43-5E12CD3A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C52-283B-4B27-B022-2FB7041E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18B-6F4C-4231-8388-A13AC127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EC47-C191-49A1-BE64-53264C0F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556-2B48-40D8-85F2-A4FC0D8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C8A5-1F60-43E7-B635-286DD03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E03E-1E40-4154-AD7B-6A59770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DBA7-D471-44DD-B264-6C76284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ECF-0C5E-40B4-A9BD-D01A1A2F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070-AFA7-47D4-8126-C71289D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EBB-E2AB-46EB-9217-519BA47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771C-2D2F-492C-8AB4-6A4EE3C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FAC7-DC17-4046-9A7E-580145C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B64-8D3D-41C6-9457-2422B04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7CE-63E0-4E30-8ABC-49EA9382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4E5E-0379-42A0-BEAB-C94A0746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508-C61A-4FC2-81BD-53AC380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B67-02CA-4DAC-8F78-E59095C7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1FC-1738-47B8-9A0E-3FBB411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427-DD7C-4006-B22C-FC8AE33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489-E017-4009-B93B-51D97946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7E8-E444-4C82-BF0A-FA482FD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3E8-B76F-4206-8F18-770E6FA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B34-0EC0-43A8-BE3A-143C503CF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4B0-DB80-4150-B401-2A8EBB19CF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funtimesguide.com/images/blogs/corn_on_cob_holders.jpg&amp;imgrefurl=http://food.thefuntimesguide.com/2005/07/corn_on_the_cob.php&amp;usg=__uSIVt8EMywukU2Nki-YjDJrni18=&amp;h=400&amp;w=600&amp;sz=267&amp;hl=EN&amp;start=3&amp;tbnid=KjYtLyUunvu9zM:&amp;tbnh=90&amp;tbnw=135&amp;prev=/images?q=cob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sz-wholesale.com/uploadFiles/upimg1/Rectangle-Oval-Or-Teardrop-Key-Fob15317.jpg&amp;imgrefurl=http://www.sz-wholesale.com/Search-Result/key-fob/&amp;usg=__zzZ0ymV7h13relR2SBusckOeY4g=&amp;h=350&amp;w=350&amp;sz=15&amp;hl=EN&amp;start=59&amp;tbnid=QnhdTcKZk_1PUM:&amp;tbnh=120&amp;tbnw=120&amp;prev=/images?q=fob&amp;gbv=2&amp;ndsp=18&amp;hl=EN&amp;sa=N&amp;start=54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illiamlobdell.com/wp-content/uploads/2009/02/angry-mob.bmp&amp;imgrefurl=http://williamlobdell.com/archives/573&amp;usg=__DzKYWXN1KcBGpzocv3UX5smYpys=&amp;h=454&amp;w=594&amp;sz=792&amp;hl=EN&amp;start=84&amp;tbnid=s2eeYjYigbebkM:&amp;tbnh=103&amp;tbnw=135&amp;prev=/images?q=mob&amp;gbv=2&amp;ndsp=18&amp;hl=EN&amp;sa=N&amp;start=72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1.bp.blogspot.com/_t-wcG2Q5x8w/RypZkDLMMWI/AAAAAAAAAM4/sxTzllKJP3M/s320/drummonds_knob2.jpg&amp;imgrefurl=http://textiledecor.blogspot.com/2007/11/door-knobs-handles-fingerplates-door.html&amp;usg=__zE5KX-HVd5XtDPqiEdVbDOuupy4=&amp;h=297&amp;w=320&amp;sz=20&amp;hl=EN&amp;start=18&amp;tbnid=N7-uBKxQI_gXEM:&amp;tbnh=110&amp;tbnw=118&amp;prev=/images?q=knob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uloc.de/screenshots/h/habf17_10_homer_blob.jpg&amp;imgrefurl=http://www.skyscrapercity.com/showthread.php?p=25517116&amp;usg=__4OlZSbszl3gCDP2uUQ5PdW2a0KY=&amp;h=368&amp;w=512&amp;sz=34&amp;hl=EN&amp;start=7&amp;tbnid=4CMfdAOBJhzbyM:&amp;tbnh=94&amp;tbnw=131&amp;prev=/images?q=blob&amp;gbv=2&amp;ndsp=18&amp;hl=EN&amp;sa=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dreamstime.com/loathsome-slob-thumb59176.jpg&amp;imgrefurl=http://www.dreamstime.com/loathsome-slob-image59176&amp;usg=__maoHoJDwyZOmhxG1isoXHHmlwts=&amp;h=210&amp;w=300&amp;sz=40&amp;hl=EN&amp;start=22&amp;tbnid=SXyDpKZpEsB_cM:&amp;tbnh=81&amp;tbnw=116&amp;prev=/images?q=slob&amp;gbv=2&amp;ndsp=18&amp;hl=EN&amp;sa=N&amp;start=18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www.sue-chan.com/art/snob.jpg&amp;imgrefurl=http://www.viprasys.org/vb/f18/10-ways-tell-if-youre-snob-205521/&amp;usg=__ljF3ZnfYMTqz0xAqxATCIePotfY=&amp;h=696&amp;w=551&amp;sz=83&amp;hl=EN&amp;start=18&amp;tbnid=7ktDh2HvFADZIM:&amp;tbnh=139&amp;tbnw=110&amp;prev=/images?q=snob&amp;gbv=2&amp;hl=EN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gocentralamerica/1/0/U/-/-/-/dock.JPG&amp;imgrefurl=http://gocentralamerica.about.com/od/topattractions/ig/Atitlan-Gallery/dock.htm&amp;usg=__szma24z2gSYNoq6wvIkOuOy2qyQ=&amp;h=1728&amp;w=2304&amp;sz=960&amp;hl=EN&amp;start=3&amp;tbnid=GY4IpTvB2Bjz8M:&amp;tbnh=113&amp;tbnw=150&amp;prev=/images?q=dock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jockdreams.com/images/Jock0124081.jpg&amp;imgrefurl=http://jockdreams.com/index.php/archives/51&amp;usg=__Gmbm9nVLK4fG73etXwHtNRexpQU=&amp;h=398&amp;w=409&amp;sz=128&amp;hl=EN&amp;start=11&amp;tbnid=WZDOZOE1uDTP9M:&amp;tbnh=122&amp;tbnw=125&amp;prev=/images?q=jock&amp;gbv=2&amp;hl=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fs.fed.us/r3/coronado/forest/local-resources/images/reppelling2.jpg&amp;imgrefurl=http://www.fs.fed.us/r3/coronado/forest/recreation/rock_climbing/rocks.shtml&amp;usg=__1FXUBY4peUcjfKLmf5P5fIT2Huk=&amp;h=5312&amp;w=3600&amp;sz=784&amp;hl=EN&amp;start=15&amp;tbnid=4K9N-tjtKUpd8M:&amp;tbnh=150&amp;tbnw=102&amp;prev=/images?q=rock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kjbeckett.com/mensfashionblog/uploaded_images/paul-smith-socks-784860.jpg&amp;imgrefurl=http://www.kjbeckett.com/mensfashionblog/labels/Designers.html&amp;usg=__9bUMSj5hiRPrQCjNyPwFNwkLpxk=&amp;h=350&amp;w=350&amp;sz=45&amp;hl=EN&amp;start=2&amp;tbnid=S_f9iD0zBTmPdM:&amp;tbnh=120&amp;tbnw=120&amp;prev=/images?q=sock&amp;gbv=2&amp;hl=E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shelleygrund.com/images/PADs/PAD65-tick-tock.jpg&amp;imgrefurl=http://www.shelleygrund.com/FineArt/painting-a-day-Dec06.htm&amp;usg=__lQBuPIMXso9QEZLQT_eFrirKaFc=&amp;h=500&amp;w=353&amp;sz=76&amp;hl=EN&amp;start=9&amp;tbnid=Y6oK_EXaUk1_wM:&amp;tbnh=130&amp;tbnw=92&amp;prev=/images?q=tock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blakeneymanor.com/images/carryon/shock.jpg&amp;imgrefurl=http://thegreenman.net.au/mt/archives/cat_current_affairs.html&amp;usg=__gz80Cxh_MUz62fbfYbQxpvk7l34=&amp;h=305&amp;w=412&amp;sz=96&amp;hl=EN&amp;start=7&amp;tbnid=W4lq1Xmg65OibM:&amp;tbnh=93&amp;tbnw=125&amp;prev=/images?q=shock&amp;gbv=2&amp;ndsp=18&amp;hl=EN&amp;sa=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base.cygnuspub.com/images/Products/GSW/2007/Nov/300x300/AEROSpeci_ChockLock_25524.png&amp;imgrefurl=http://directory.groundsupportworldwide.com/product/32817/Chock-Lock&amp;usg=__F-wiF2oUms7AQsUTX2kwtAhJNjA=&amp;h=300&amp;w=300&amp;sz=57&amp;hl=EN&amp;start=75&amp;tbnid=HaoEXM1eF7_CFM:&amp;tbnh=116&amp;tbnw=116&amp;prev=/images?q=chock&amp;gbv=2&amp;ndsp=18&amp;hl=EN&amp;sa=N&amp;start=72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www.naturalsciences.org/microsites/education/treks/bluebird/images/Knock-first.jpg&amp;imgrefurl=http://naturalsciences.org/microsites/education/treks/bluebird/pages/Knock-first.html&amp;usg=__5v1IRsD5dLcUoX5B-pqtezJB2IY=&amp;h=600&amp;w=400&amp;sz=41&amp;hl=EN&amp;start=9&amp;tbnid=CBPvG0fzZjnHwM:&amp;tbnh=135&amp;tbnw=90&amp;prev=/images?q=knock&amp;gbv=2&amp;hl=E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www.germes-online.com/direct/dbimage/50185440/ABC_Block.jpg&amp;imgrefurl=http://www.germes-online.com/catalog/62/1156/page7/wooden_toys.html&amp;usg=__aMLEUUkuEIALVayU2kTKUrLi0Vg=&amp;h=360&amp;w=360&amp;sz=31&amp;hl=EN&amp;start=2&amp;tbnid=pgs0IaQbLgMZMM:&amp;tbnh=121&amp;tbnw=121&amp;prev=/images?q=block&amp;gbv=2&amp;ndsp=18&amp;hl=EN&amp;sa=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http://www.roadtrucker.com/12-volt-cooking/12-volt-cooking-products/12-volt-slow-cooker-crock-pot.jpg&amp;imgrefurl=http://www.roadtrucker.com/12-volt-cooking/12-volt-portable-slow-cooker-crock-pot.htm&amp;usg=__W8JwYz7sHZj_M43Tq-GFZPMbylY=&amp;h=630&amp;w=586&amp;sz=20&amp;hl=EN&amp;start=15&amp;tbnid=v-xos10jXc7WsM:&amp;tbnh=137&amp;tbnw=127&amp;prev=/images?q=crock&amp;gbv=2&amp;hl=EN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images.google.com/imgres?imgurl=http://www.freefoto.com/images/01/01/01_01_24---Flock-of-Birds_web.jpg&amp;imgrefurl=http://www.freefoto.com/preview/01-01-24?ffid=01-01-24&amp;usg=__rPvXBlVlH4ejhzKmwn7DXtfBngo=&amp;h=400&amp;w=600&amp;sz=110&amp;hl=EN&amp;start=17&amp;tbnid=2XVm_U41rqdeGM:&amp;tbnh=90&amp;tbnw=135&amp;prev=/images?q=flock&amp;gbv=2&amp;hl=EN" TargetMode="External"/><Relationship Id="rId22" Type="http://schemas.openxmlformats.org/officeDocument/2006/relationships/image" Target="../media/image20.jpeg"/><Relationship Id="rId23" Type="http://schemas.openxmlformats.org/officeDocument/2006/relationships/hyperlink" Target="http://images.google.com/imgres?imgurl=http://restaurantuniforms.com/artistsmock.jpg&amp;imgrefurl=http://restaurantuniforms.com/smocks.htm&amp;usg=__OAEm9-0Mdce4MzM4BUzz9O4QF7s=&amp;h=425&amp;w=455&amp;sz=40&amp;hl=EN&amp;start=6&amp;tbnid=hpecjBRiGfcWjM:&amp;tbnh=120&amp;tbnw=128&amp;prev=/images?q=smock&amp;gbv=2&amp;hl=EN" TargetMode="External"/><Relationship Id="rId24" Type="http://schemas.openxmlformats.org/officeDocument/2006/relationships/image" Target="../media/image21.jpeg"/><Relationship Id="rId25" Type="http://schemas.openxmlformats.org/officeDocument/2006/relationships/hyperlink" Target="http://images.google.com/imgres?imgurl=http://www.ipr.edu/multimedia/wp-content/uploads/2009/02/star-trek-spock1.jpg&amp;imgrefurl=http://www.ipr.edu/multimedia/index.php/2009/02/10/killzone-2-reviews-spark-embarassing-responses-from-gamers/&amp;usg=__1DErEgS2fsu7WL0-mLKHT9IhiMA=&amp;h=504&amp;w=559&amp;sz=51&amp;hl=EN&amp;start=3&amp;tbnid=Z3-S5wDYXGWoJM:&amp;tbnh=120&amp;tbnw=133&amp;prev=/images?q=Spock&amp;gbv=2&amp;hl=EN" TargetMode="External"/><Relationship Id="rId26" Type="http://schemas.openxmlformats.org/officeDocument/2006/relationships/image" Target="../media/image22.jpeg"/><Relationship Id="rId27" Type="http://schemas.openxmlformats.org/officeDocument/2006/relationships/hyperlink" Target="http://images.google.com/imgres?imgurl=http://www.harmonyhouseservices.org/stock%2520room.jpg&amp;imgrefurl=http://www.harmonyhouseservices.org/mission.html&amp;usg=__wDc80Xqf9jxcum_hqsAmeCknm-k=&amp;h=426&amp;w=568&amp;sz=106&amp;hl=EN&amp;start=61&amp;tbnid=QqJuTuhyQiiHtM:&amp;tbnh=101&amp;tbnw=134&amp;prev=/images?q=stockroom&amp;gbv=2&amp;ndsp=18&amp;hl=EN&amp;sa=N&amp;start=54" TargetMode="External"/><Relationship Id="rId28" Type="http://schemas.openxmlformats.org/officeDocument/2006/relationships/image" Target="../media/image23.jpeg"/><Relationship Id="rId2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Ronald%20Morgan%20Goes%20to%20Bat.htm" TargetMode="External"/><Relationship Id="rId2" Type="http://schemas.openxmlformats.org/officeDocument/2006/relationships/hyperlink" Target="http://scottsboro.org/~flewis/SF%20Reading%20Street/spellmaster/Ronald%20Morgan/jigword2.html" TargetMode="External"/><Relationship Id="rId3" Type="http://schemas.openxmlformats.org/officeDocument/2006/relationships/hyperlink" Target="http://scottsboro.org/~flewis/SF%20Reading%20Street/spellmaster/Ronald%20Morgan/matchword2.html" TargetMode="External"/><Relationship Id="rId4" Type="http://schemas.openxmlformats.org/officeDocument/2006/relationships/hyperlink" Target="http://scottsboro.org/~flewis/SF%20Reading%20Street/spellmaster/Ronald%20Morgan/speedword2.html" TargetMode="External"/><Relationship Id="rId5" Type="http://schemas.openxmlformats.org/officeDocument/2006/relationships/hyperlink" Target="http://scottsboro.org/~flewis/SF%20Reading%20Street/spellmaster/Ronald%20Morgan/wordsearch2.html" TargetMode="External"/><Relationship Id="rId6" Type="http://schemas.openxmlformats.org/officeDocument/2006/relationships/hyperlink" Target="http://scottsboro.org/~flewis/SF%20Reading%20Street/spellmaster/Ronald%20Morgan/wordweb.html" TargetMode="External"/><Relationship Id="rId7" Type="http://schemas.openxmlformats.org/officeDocument/2006/relationships/hyperlink" Target="http://www.spellingcity.com/index.php?option=com_spellcity&amp;task=viewList&amp;listId=825904" TargetMode="External"/><Relationship Id="rId8" Type="http://schemas.openxmlformats.org/officeDocument/2006/relationships/hyperlink" Target="http://www.spellingcity.com/index.php?option=com_spellcity&amp;task=viewList&amp;listId=825909" TargetMode="External"/><Relationship Id="rId9" Type="http://schemas.openxmlformats.org/officeDocument/2006/relationships/hyperlink" Target="http://scottsboro.org/~flewis/SF%20Reading%20Street/spellmaster/Ronald%20Morgan%20Spelling%20Words/speedword2.html" TargetMode="External"/><Relationship Id="rId10" Type="http://schemas.openxmlformats.org/officeDocument/2006/relationships/hyperlink" Target="http://scottsboro.org/~flewis/SF%20Reading%20Street/spellmaster/Ronald%20Morgan%20Spelling%20Words/wordweb.html" TargetMode="External"/><Relationship Id="rId11" Type="http://schemas.openxmlformats.org/officeDocument/2006/relationships/hyperlink" Target="http://www.quia.com/ba/109475.html" TargetMode="External"/><Relationship Id="rId12" Type="http://schemas.openxmlformats.org/officeDocument/2006/relationships/hyperlink" Target="http://www.spellingcity.com/index.php?option=com_spellcity&amp;Itemid=122&amp;task=viewList&amp;listId=354213" TargetMode="External"/><Relationship Id="rId13" Type="http://schemas.openxmlformats.org/officeDocument/2006/relationships/hyperlink" Target="http://scottsboro.org/~flewis/SF%20Reading%20Street/Hot%20Potatoes/Ronald_Morgan_Goes_to_Bat.htm" TargetMode="External"/><Relationship Id="rId14" Type="http://schemas.openxmlformats.org/officeDocument/2006/relationships/hyperlink" Target="http://www.spellingcity.com/index.php?option=com_spellcity&amp;task=viewList&amp;listId=825915" TargetMode="External"/><Relationship Id="rId15" Type="http://schemas.openxmlformats.org/officeDocument/2006/relationships/hyperlink" Target="http://www.spellingcity.com/index.php?option=com_spellcity&amp;task=viewList&amp;listId=825915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Ronald%20Morgan/jigword2.html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martcanucks.ca/wp-content/uploads/2006/10/easy-bake-oven.jpg&amp;imgrefurl=http://allcakedup.blogspot.com/&amp;usg=__WRMkSe9kk6dYwOYDpIwv55Fvako=&amp;h=386&amp;w=450&amp;sz=30&amp;hl=EN&amp;start=2&amp;tbnid=batswpqOtAQu4M:&amp;tbnh=109&amp;tbnw=127&amp;prev=/images?q=BAKE&amp;gbv=2&amp;hl=E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cinderellacaketoppers.com/data/media/8/pink-wedding-cake.jpg&amp;imgrefurl=http://www.1weddingsource.com/blog/category/wedding-cakes/&amp;usg=__HHLUs-IiOSzqEjI7b43NICr2wHk=&amp;h=756&amp;w=650&amp;sz=42&amp;hl=EN&amp;start=25&amp;tbnid=vCHnnqfClJBp7M:&amp;tbnh=142&amp;tbnw=122&amp;prev=/images?q=cake&amp;gbv=2&amp;ndsp=18&amp;hl=EN&amp;sa=N&amp;start=18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i.ehow.com/images/GlobalPhoto/Articles/2135205/rake_Full.jpg&amp;imgrefurl=http://www.ehow.com/how_2135205_rake-leaves-efficiently.html&amp;usg=__JM67HsnDgSLG8yq4bPMdGfiBAvg=&amp;h=599&amp;w=561&amp;sz=50&amp;hl=EN&amp;start=16&amp;tbnid=N3LJkG62aJn5zM:&amp;tbnh=135&amp;tbnw=126&amp;prev=/images?q=rake&amp;gbv=2&amp;ndsp=18&amp;hl=EN&amp;sa=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candyaddict.com/blog/candy_pictures/andes_mint_shake.jpg&amp;imgrefurl=http://candyaddict.com/blog/2007/05/14/review-jack-in-the-box-andes-mint-shake/&amp;usg=__YSu-ZEj09wWPWXWns86rJb-as0M=&amp;h=400&amp;w=300&amp;sz=29&amp;hl=EN&amp;start=5&amp;tbnid=1QEkRtrPS6NhKM:&amp;tbnh=124&amp;tbnw=93&amp;prev=/images?q=shake&amp;gbv=2&amp;hl=E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sheldonbrown.com/images/campagnolo-cobalto-brake.jpg&amp;imgrefurl=http://www.sheldonbrown.com/gloss_cn-z.html&amp;usg=__F3IswFNlw6JRC1l08nO86aMsYdg=&amp;h=449&amp;w=400&amp;sz=108&amp;hl=EN&amp;start=9&amp;tbnid=gN9A2-GOo0qDwM:&amp;tbnh=127&amp;tbnw=113&amp;prev=/images?q=brake&amp;gbv=2&amp;hl=EN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google.com/imgres?imgurl=http://birdsbybaranoff.com/images/9308-black-duck-drake.jpg&amp;imgrefurl=http://birdsbybaranoff.com/chincoteaguetrip.htm&amp;usg=__W-ECEYiiITKeZVZ36nanOvOHWis=&amp;h=480&amp;w=650&amp;sz=97&amp;hl=EN&amp;start=5&amp;tbnid=vC1sxaUIzIG4YM:&amp;tbnh=101&amp;tbnw=137&amp;prev=/images?q=duck+drake&amp;gbv=2&amp;ndsp=18&amp;hl=EN&amp;sa=N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images.google.com/imgres?imgurl=http://dave.csonka.net/gallery/d/51-2/snow_flake.jpg&amp;imgrefurl=http://dave.csonka.net/gallery/v/art-nature/snow_flake.jpg.html&amp;usg=__4KPiSx--c_TfbUyikmKz6-CK3a8=&amp;h=549&amp;w=640&amp;sz=57&amp;hl=EN&amp;start=13&amp;tbnid=NzYVg4u5cP7Y8M:&amp;tbnh=118&amp;tbnw=137&amp;prev=/images?q=flake&amp;gbv=2&amp;hl=EN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images.google.com/imgres?imgurl=http://www.wallpaperbase.com/wallpapers/animals/snakes/snake_2.jpg&amp;imgrefurl=http://www.wallpaperbase.com/animals-snakes.shtml&amp;usg=__VPiDJsELqwMzVN-TAGL6kXX-BFI=&amp;h=600&amp;w=800&amp;sz=95&amp;hl=EN&amp;start=24&amp;tbnid=i8meDtrFRjmIOM:&amp;tbnh=107&amp;tbnw=143&amp;prev=/images?q=snake&amp;gbv=2&amp;ndsp=18&amp;hl=EN&amp;sa=N&amp;start=18" TargetMode="External"/><Relationship Id="rId16" Type="http://schemas.openxmlformats.org/officeDocument/2006/relationships/image" Target="../media/image32.jpeg"/><Relationship Id="rId17" Type="http://schemas.openxmlformats.org/officeDocument/2006/relationships/hyperlink" Target="http://images.google.com/imgres?imgurl=http://www.victoriananursery.co.uk/plant_care_and_gardening_tools/tree_stake_and_tie/l/tree_stake_tie.jpg&amp;imgrefurl=http://www.victoriananursery.co.uk/plant_care_and_gardening_tools/tree_stake_and_tie/&amp;usg=__23uN9eOsGmn8sBQHarKEEgp_2IM=&amp;h=300&amp;w=300&amp;sz=57&amp;hl=EN&amp;start=5&amp;tbnid=OzfqNiHwa46afM:&amp;tbnh=116&amp;tbnw=116&amp;prev=/images?q=stake&amp;gbv=2&amp;hl=EN" TargetMode="External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Ronald_Morgan_Goes_to_Bat.htm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Ronald_Morgan_Goes_to_Bat.htm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Ronald%20Morgan/jigword2.html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36.xml"/><Relationship Id="rId3" Type="http://schemas.openxmlformats.org/officeDocument/2006/relationships/slide" Target="slide64.xml"/><Relationship Id="rId4" Type="http://schemas.openxmlformats.org/officeDocument/2006/relationships/slide" Target="slide82.xml"/><Relationship Id="rId5" Type="http://schemas.openxmlformats.org/officeDocument/2006/relationships/slide" Target="slide9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13" TargetMode="Externa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ndwhistler.com/images/dine/dine.jpg&amp;imgrefurl=http://www.findwhistler.com/page.cfm/2680&amp;usg=__-A3wNOvaw-KBSZ4xDtiXktXWFzo=&amp;h=300&amp;w=583&amp;sz=41&amp;hl=EN&amp;start=2&amp;tbnid=hy9Oz5x8VQ8BkM:&amp;tbnh=69&amp;tbnw=134&amp;prev=/images?q=dine&amp;gbv=2&amp;hl=E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middlesexconservation.org/Images/spring09images/scots-pine1.gif&amp;imgrefurl=http://middlesexconservation.org/Evergreens.htm&amp;usg=__9SDriDb38YM98rLwA6x1VJENm3Q=&amp;h=591&amp;w=384&amp;sz=158&amp;hl=EN&amp;start=1&amp;tbnid=e7vFW5S5cjpZYM:&amp;tbnh=135&amp;tbnw=88&amp;prev=/images?q=pine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xaraxone.com/tutorials/sep06/320906.jpg&amp;imgrefurl=http://www.xaraxone.com/tutorials/sep06/11.html&amp;usg=__0nMtMQvnDR8yYq4Wydh1u-yjCCo=&amp;h=450&amp;w=525&amp;sz=39&amp;hl=EN&amp;start=35&amp;tbnid=mBuAwjNRTutkYM:&amp;tbnh=113&amp;tbnw=132&amp;prev=/images?q=fork+tine&amp;gbv=2&amp;ndsp=18&amp;hl=EN&amp;sa=N&amp;start=18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www.canadiangeographic.ca/Atlas/Images/Glossary/Vine.jpg&amp;imgrefurl=http://www.canadiangeographic.ca/Atlas/glossary.aspx?id=334&amp;alpha=V&amp;lang=En&amp;usg=__j_H1atoohyvgd1ZGtXayZWZCNuw=&amp;h=523&amp;w=350&amp;sz=284&amp;hl=EN&amp;start=16&amp;tbnid=J0aelEaS1eUrpM:&amp;tbnh=131&amp;tbnw=88&amp;prev=/images?q=vine&amp;gbv=2&amp;ndsp=18&amp;hl=EN&amp;sa=N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drycreekvineyard.com/images/bottles/xlg/2004_old_vine_zinfandel_btl_xlg.jpg&amp;imgrefurl=http://www.drycreekvineyard.com/our_wines/2004_old_vine_zinfandel.html&amp;usg=__7ngoOUqaeaJZjubbXS5Ca37R-G0=&amp;h=4201&amp;w=1285&amp;sz=461&amp;hl=EN&amp;start=20&amp;tbnid=E0mPejSnyFBhxM:&amp;tbnh=150&amp;tbnw=46&amp;prev=/images?q=vine&amp;gbv=2&amp;ndsp=18&amp;hl=EN&amp;sa=N&amp;start=18" TargetMode="External"/><Relationship Id="rId10" Type="http://schemas.openxmlformats.org/officeDocument/2006/relationships/image" Target="../media/image38.jpeg"/><Relationship Id="rId11" Type="http://schemas.openxmlformats.org/officeDocument/2006/relationships/hyperlink" Target="http://www.caltelephone.com/lamps/brine%20pool2.jpg" TargetMode="External"/><Relationship Id="rId12" Type="http://schemas.openxmlformats.org/officeDocument/2006/relationships/image" Target="../media/image39.jpeg"/><Relationship Id="rId13" Type="http://schemas.openxmlformats.org/officeDocument/2006/relationships/hyperlink" Target="http://images.google.com/imgres?imgurl=http://blog.bioethics.net/spine.gif&amp;imgrefurl=http://blog.bioethics.net/2009/01/spine-transparency/&amp;usg=__hRbAKZioEcATx7elWf5Fsf40BLc=&amp;h=539&amp;w=410&amp;sz=19&amp;hl=EN&amp;start=1&amp;tbnid=loofOT339HJBNM:&amp;tbnh=132&amp;tbnw=100&amp;prev=/images?q=spine&amp;gbv=2&amp;hl=EN" TargetMode="External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makes a team?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ick to listen to story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11" descr="Ronald Morg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2286000"/>
            <a:ext cx="320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amazing word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sm and fantasy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aking F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114800" y="182880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33520" y="220968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s telling them I’ll be l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lling the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l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 no time.  We can’t ride to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r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 time.   W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de to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 watching the dogs while I’m g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tching the dogs whil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n’t Mom say he’s at the pa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m sa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’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the pa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895480" y="1295280"/>
          <a:ext cx="5181840" cy="5284800"/>
        </p:xfrm>
        <a:graphic>
          <a:graphicData uri="http://schemas.openxmlformats.org/drawingml/2006/table">
            <a:tbl>
              <a:tblPr/>
              <a:tblGrid>
                <a:gridCol w="518184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“you ar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opposite of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opposite of c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the following: first, ____, thi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same as wonderf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ay pick ____ this or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“of cours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304560" y="4568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i hit the ball had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I hit the ball hard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at a fun gam this i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at a fun game this   is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Wee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et’s Talk Ab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rking Toge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G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what yo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 to fami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600200" y="2209680"/>
          <a:ext cx="6095880" cy="3468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ed Link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 of Sport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ball on Brain Po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ons Practic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in Po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206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676520" y="2362320"/>
          <a:ext cx="6324480" cy="251460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Fit: Lifetime Fitness (15:00)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398160"/>
            <a:ext cx="77929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es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ory Tes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ding Street for Students:  Reading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 Test:  Ronald Morgan Goes to Bat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 Reading Quiz # 9046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 - p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ou try very hard to win or you become part of a con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team wi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their team for the champion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 and Jenny ar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mpe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spelling b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 – trib - 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something, you help along with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on the tea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rd work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ntrib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r own ideas for the pa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re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 – re  – a – 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fun or something you do to have a good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like to go to the beach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su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’s family goes camping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cre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514600"/>
            <a:ext cx="289548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this song about working as a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ent Placeholder 4" descr="190l_190m_img2.gif"/>
          <p:cNvPicPr/>
          <p:nvPr/>
        </p:nvPicPr>
        <p:blipFill>
          <a:blip r:embed="rId1"/>
          <a:stretch/>
        </p:blipFill>
        <p:spPr>
          <a:xfrm>
            <a:off x="3878280" y="228600"/>
            <a:ext cx="5265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es not  -  doesn’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ontraction, a short way of saying and writing two word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ostrophe takes the place of letters that have been left ou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e compare these words, we see that the apostrophe takes the place of the lett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see a contraction, you know it is a short way of writing two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ou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24280" y="23623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4280" y="23623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y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d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0520" y="2017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re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6040" y="20574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c1c1c"/>
                </a:solidFill>
                <a:latin typeface="Tahoma"/>
              </a:rPr>
              <a:t>Small Group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spell contractions by thinking about the two words that make up the contraction.  What words make up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about how you spell those two words.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n apostrophe to take the place of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 leave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spell contractions, make sure to put the apostrophe in the right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67080" y="175248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9480" y="2514600"/>
          <a:ext cx="3353040" cy="39625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rob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71600" y="182880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r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2" descr="http://tbn1.google.com/images?q=tbn:KjYtLyUunvu9zM:http://thefuntimesguide.com/images/blogs/corn_on_cob_hold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86000"/>
            <a:ext cx="19429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1.google.com/images?q=tbn:QnhdTcKZk_1PUM:http://www.sz-wholesale.com/uploadFiles/upimg1/Rectangle-Oval-Or-Teardrop-Key-Fob1531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20574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2.google.com/images?q=tbn:s2eeYjYigbebkM:http://williamlobdell.com/wp-content/uploads/2009/02/angry-mob.bmp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343400"/>
            <a:ext cx="249696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2.google.com/images?q=tbn:N7-uBKxQI_gXEM:http://1.bp.blogspot.com/_t-wcG2Q5x8w/RypZkDLMMWI/AAAAAAAAAM4/sxTzllKJP3M/s320/drummonds_knob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28600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3.google.com/images?q=tbn:4CMfdAOBJhzbyM:http://www.uloc.de/screenshots/h/habf17_10_homer_blo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343400"/>
            <a:ext cx="212400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3.google.com/images?q=tbn:SXyDpKZpEsB_cM:http://www.dreamstime.com/loathsome-slob-thumb59176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8120" y="4343400"/>
            <a:ext cx="2182680" cy="1523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http://tbn3.google.com/images?q=tbn:7ktDh2HvFADZIM:http://www.sue-chan.com/art/snob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62920" y="1828800"/>
            <a:ext cx="15080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1"/>
          <p:cNvSpPr/>
          <p:nvPr/>
        </p:nvSpPr>
        <p:spPr>
          <a:xfrm>
            <a:off x="1136520" y="36576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3566880" y="3581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5396040" y="3581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7453080" y="3733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n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880200" y="5943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ob/bl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3798360" y="594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6919920" y="6019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clock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828800"/>
          <a:ext cx="6359400" cy="39625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c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2" descr="http://tbn0.google.com/images?q=tbn:GY4IpTvB2Bjz8M:http://z.about.com/d/gocentralamerica/1/0/U/-/-/-/do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tbn2.google.com/images?q=tbn:WZDOZOE1uDTP9M:http://jockdreams.com/images/Jock012408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209680"/>
            <a:ext cx="1190520" cy="116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tbn1.google.com/images?q=tbn:4K9N-tjtKUpd8M:http://www.fs.fed.us/r3/coronado/forest/local-resources/images/reppelling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24680" y="2133720"/>
            <a:ext cx="828720" cy="121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http://tbn1.google.com/images?q=tbn:S_f9iD0zBTmPdM:http://www.kjbeckett.com/mensfashionblog/uploaded_images/paul-smith-socks-78486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2209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http://tbn2.google.com/images?q=tbn:Y6oK_EXaUk1_wM:http://www.shelleygrund.com/images/PADs/PAD65-tick-toc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419112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tbn2.google.com/images?q=tbn:W4lq1Xmg65OibM:http://www.blakeneymanor.com/images/carryon/shock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91120"/>
            <a:ext cx="14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http://tbn0.google.com/images?q=tbn:HaoEXM1eF7_CFM:http://base.cygnuspub.com/images/Products/GSW/2007/Nov/300x300/AEROSpeci_ChockLock_25524.pn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4191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http://tbn3.google.com/images?q=tbn:CBPvG0fzZjnHwM:http://www.naturalsciences.org/microsites/education/treks/bluebird/images/Knock-firs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29400" y="21337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http://tbn0.google.com/images?q=tbn:pgs0IaQbLgMZMM:http://www.germes-online.com/direct/dbimage/50185440/ABC_Blo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43600" y="41911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http://tbn0.google.com/images?q=tbn:v-xos10jXc7WsM:http://www.roadtrucker.com/12-volt-cooking/12-volt-cooking-products/12-volt-slow-cooker-crock-pot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562720" y="5715000"/>
            <a:ext cx="84744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http://tbn2.google.com/images?q=tbn:2XVm_U41rqdeGM:http://www.freefoto.com/images/01/01/01_01_24---Flock-of-Birds_web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438280" y="57913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4" descr="http://tbn0.google.com/images?q=tbn:hpecjBRiGfcWjM:http://restaurantuniforms.com/artistsmock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391520" y="42670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http://tbn2.google.com/images?q=tbn:Z3-S5wDYXGWoJM:http://www.ipr.edu/multimedia/wp-content/uploads/2009/02/star-trek-spock1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19720" y="41911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http://tbn2.google.com/images?q=tbn:QqJuTuhyQiiHtM:http://www.harmonyhouseservices.org/stock%2520room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505320" y="2209680"/>
            <a:ext cx="151596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6"/>
          <p:cNvSpPr/>
          <p:nvPr/>
        </p:nvSpPr>
        <p:spPr>
          <a:xfrm>
            <a:off x="600120" y="3352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2285280" y="3429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3870360" y="33526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9"/>
          <p:cNvSpPr/>
          <p:nvPr/>
        </p:nvSpPr>
        <p:spPr>
          <a:xfrm>
            <a:off x="5402520" y="342900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6609600" y="342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8061120" y="33526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444600" y="54864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1587600" y="54864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Box 24"/>
          <p:cNvSpPr/>
          <p:nvPr/>
        </p:nvSpPr>
        <p:spPr>
          <a:xfrm>
            <a:off x="295164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Box 25"/>
          <p:cNvSpPr/>
          <p:nvPr/>
        </p:nvSpPr>
        <p:spPr>
          <a:xfrm>
            <a:off x="4633920" y="5334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6159240" y="53341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7450920" y="5486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Box 28"/>
          <p:cNvSpPr/>
          <p:nvPr/>
        </p:nvSpPr>
        <p:spPr>
          <a:xfrm>
            <a:off x="3801240" y="617220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6465240" y="6172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Working Together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ism &amp; Fantas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y tells about something that could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ake-believe story.  It could not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readers look for clues that tell them if a stor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he Elephant Te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n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e want to play basebal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e want to play baseball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s a fun game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It’s a fun game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8"/>
              </a:rPr>
              <a:t>Spelling City- Ama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0600" y="22096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Spelling </a:t>
            </a:r>
            <a:r>
              <a:rPr b="1" i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W</a:t>
            </a: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4"/>
              </a:rPr>
              <a:t>Spelling Cit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5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word that names a person, place, animal, or 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special names for people, places, animals, and thing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begin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pital let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week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nt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year,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oli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begin with capital let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it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people begin with capital letters.  Many titles end with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icia ortiz broke her arm in the game on july 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licia Ortiz broke her arm in the game on July 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r lee told her no more baseball until labor da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. Lee told her no more baseball until Labor Da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friday alicia was back at pioneer par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n Friday Alicia was back at Pioneer Par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er team, the patton panthers, was playing the terry tiger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er team, the Patton Panthers, was playing the Terry Tiger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, roberto!  Come on, cindy!” shouted alici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o, Roberto!  Come on, Cindy!” shouted Alici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orrow we will read about a boy who loves baseb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00200" y="2209680"/>
          <a:ext cx="6095880" cy="35658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 sports in whic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 can comp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90720" y="2209680"/>
          <a:ext cx="7315200" cy="366408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onald Morgan and his baseball team.  Ronald isn’t a very good player, but he’s still an important part of the team.  What are some ways that individuals can help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2209680"/>
          <a:ext cx="7315200" cy="366408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onald Morgan and his baseball team.  Ronald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sn’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 very good player, but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e’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till an important part of the team.  What are some ways that individuals can help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65534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w amazing word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lism and fantasy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or knowledge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ocabulary words, a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3594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2514600"/>
          <a:ext cx="3352680" cy="38466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84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tch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f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ir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952880" y="1219320"/>
          <a:ext cx="3927600" cy="5260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re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r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of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k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er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 - s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mething, you have a right to it or have earned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treat for cleaning you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hel worked so hard preparing for the race, s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serv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w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ou feel sad and sorry for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ound the house when the children were in school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easy t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n you don’t have anyone to play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u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 – u – 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, you get it started or put it into 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steps are needed t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space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to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ctua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 wind-up sp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ad-Aloud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rom Me to Yo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’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read this word because you know how to read contractions.  What two words for I’l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 wi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come to a contraction, you know it is a short way of writing two words.  An apostrophe takes the place of letters that were left 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listen  to “I’m on the Team.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" descr="Phonics Songs and Rhymes Chart 7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d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49280" y="2017800"/>
            <a:ext cx="60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k out the contractions in “I’m on the Team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’m – I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n’t – do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’ll – we w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’s – it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114800" y="1828800"/>
          <a:ext cx="4572000" cy="4737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33520" y="220968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make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71600" y="18288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ma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Picture 2" descr="http://tbn0.google.com/images?q=tbn:batswpqOtAQu4M:http://smartcanucks.ca/wp-content/uploads/2006/10/easy-bake-ov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1420560" cy="1218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tbn3.google.com/images?q=tbn:vCHnnqfClJBp7M:http://cinderellacaketoppers.com/data/media/8/pink-wedding-cak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2096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1.google.com/images?q=tbn:N3LJkG62aJn5zM:http://i.ehow.com/images/GlobalPhoto/Articles/2135205/rake_Ful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22096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1QEkRtrPS6NhKM:http://candyaddict.com/blog/candy_pictures/andes_mint_shak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2133720"/>
            <a:ext cx="1086120" cy="1447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0.google.com/images?q=tbn:gN9A2-GOo0qDwM:http://www.sheldonbrown.com/images/campagnolo-cobalto-brak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267080"/>
            <a:ext cx="1447560" cy="1627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0.google.com/images?q=tbn:vC1sxaUIzIG4YM:http://birdsbybaranoff.com/images/9308-black-duck-drak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4343400"/>
            <a:ext cx="1752480" cy="1292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1.google.com/images?q=tbn:NzYVg4u5cP7Y8M:http://dave.csonka.net/gallery/d/51-2/snow_flak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4343400"/>
            <a:ext cx="1503360" cy="1295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2.google.com/images?q=tbn:i8meDtrFRjmIOM:http://www.wallpaperbase.com/wallpapers/animals/snakes/snake_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81680" y="4343400"/>
            <a:ext cx="183384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2.google.com/images?q=tbn:OzfqNiHwa46afM:http://www.victoriananursery.co.uk/plant_care_and_gardening_tools/tree_stake_and_tie/l/tree_stake_tie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2133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905040" y="36576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23572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028400" y="36576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5543280" y="35812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7229880" y="3657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973800" y="5867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3259800" y="571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5325840" y="56386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7301880" y="5715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19520" y="1219320"/>
          <a:ext cx="4190760" cy="52848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0680" y="2017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s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20680" y="2017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ould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ll ask Ann if it’s her 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’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 Ann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r 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m going to ask who’s co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’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ing to ask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didn’t find the ball he’s asking f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nd the ba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e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ing f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doll wasn’t the one she’s talking ab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doll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sn’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on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he’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lking ab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ism &amp; Fantas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y tells about something that could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ake-believe story.  It could not happen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read, ask yourself if the things that happen could occur in real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clues from the pictures that tell if the story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or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ior knowled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what you already know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you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knowled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you read can help you figure out the story, as well as help you guess what might happen n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0" y="1295280"/>
          <a:ext cx="5181480" cy="528480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u’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ai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0520" y="2017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2600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tai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2720" y="248760"/>
            <a:ext cx="7359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35240" y="2244600"/>
          <a:ext cx="6629400" cy="406584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Vocabulary Wor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utched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held tightl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errifi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very goo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piri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energy; liveline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school played baseball against a ____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school played baseball against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errif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friend _____ his mitt and jumped to catch the b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frie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utc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is mitt and jumped to catch the b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heered for him with a lot of ____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heered for him with a lo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pir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905120"/>
          <a:ext cx="4572000" cy="473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33520" y="228600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os going to pla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o’s going to play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when will we st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ahoma"/>
              </a:rPr>
              <a:t>When will we start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ammar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th      -       Ju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iday     -      Thanksgiving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names for people, places, animals, and things are call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 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gin with a capital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orrow we will hear more about Rat and his frie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when you did something nice for a friend or family member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00200" y="220968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at.  Rat is a make-believe character who feels lonely until he gets a letter.  Why might a letter make him feel be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600200" y="220968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 we will read about Rat.  Rat is a make-believe character who feels lonely until he gets a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ette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 Why might a letter make him feel be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04760" y="22096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-Controlled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r, or, ore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4760" y="458280"/>
            <a:ext cx="73645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dnesd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o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 - lo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 that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high up or up in the 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irplane flie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e plane i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ssengers can get up and walk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n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 - 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something, you work at it and fool around with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a person invents something great when he or she is jus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d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nke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our old TV set and figured out how to fix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ig Question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What makes a team?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Controlled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ar, or, 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720" y="24382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r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king Word Letter T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77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– o – e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c – f – h – k – m – r –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s  – t</a:t>
            </a: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br>
              <a:rPr sz="4400"/>
            </a:b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certainly, either, great, laugh, second, worst, you’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loved baseball, but he had never played.  He wanted to try out for the team, but he was afraid.  “What if I can’t hit the ball and they _______ at me?”  said B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’m not a _____ player like you, Dad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 let out a big _____ .  “Now wait one ______ , Ben,” Dad chuck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ugh, 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______ didn’t start out that way.   At first, I felt like the ____ player on my team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ertainly, wo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 explained to Ben how hard he practiced.  “Then I got better and better.  I didn’t want to give up.”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thought for a moment.  “I don’t want to give up _____!  Let’s practice!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6760" y="352440"/>
            <a:ext cx="73627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114800" y="1905120"/>
          <a:ext cx="4572000" cy="473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8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/>
                        </a:rPr>
                        <a:t>Spelling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ll                 we’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sn’t          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               h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’s              ha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m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n’t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ould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’s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er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2286000"/>
          <a:ext cx="3352680" cy="4343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ord Wall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line</a:t>
            </a:r>
            <a:br>
              <a:rPr sz="4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371600" y="18288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http://tbn2.google.com/images?q=tbn:hy9Oz5x8VQ8BkM:http://findwhistler.com/images/dine/d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0"/>
            <a:ext cx="221940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tbn1.google.com/images?q=tbn:e7vFW5S5cjpZYM:http://middlesexconservation.org/Images/spring09images/scots-pine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133720"/>
            <a:ext cx="1092240" cy="1676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http://tbn0.google.com/images?q=tbn:mBuAwjNRTutkYM:http://www.xaraxone.com/tutorials/sep06/3209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2438280"/>
            <a:ext cx="1218960" cy="1043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http://tbn2.google.com/images?q=tbn:J0aelEaS1eUrpM:http://www.canadiangeographic.ca/Atlas/Images/Glossary/Vin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133720"/>
            <a:ext cx="1371600" cy="204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http://tbn3.google.com/images?q=tbn:E0mPejSnyFBhxM:http://www.drycreekvineyard.com/images/bottles/xlg/2004_old_vine_zinfandel_btl_xl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267080"/>
            <a:ext cx="438120" cy="1428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4267080"/>
            <a:ext cx="2229120" cy="1524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http://tbn3.google.com/images?q=tbn:loofOT339HJBNM:http://blog.bioethics.net/spine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4267080"/>
            <a:ext cx="12128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8" descr="http://tbn0.google.com/images?q=tbn:qIQwCwu6KtW44M:http://misslissa.files.wordpress.com/2009/04/swine.jpg"/>
          <p:cNvPicPr/>
          <p:nvPr/>
        </p:nvPicPr>
        <p:blipFill>
          <a:blip r:embed="rId15"/>
          <a:stretch/>
        </p:blipFill>
        <p:spPr>
          <a:xfrm>
            <a:off x="6629400" y="4800600"/>
            <a:ext cx="1847880" cy="1236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3"/>
          <p:cNvSpPr/>
          <p:nvPr/>
        </p:nvSpPr>
        <p:spPr>
          <a:xfrm>
            <a:off x="1512360" y="3505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3487680" y="3809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5478120" y="35812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7385760" y="4191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347840" y="57913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3419640" y="586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084280" y="60958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7219440" y="60199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ymes with st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er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a rhyming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uldn’t, shouldn’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yme with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 about more than one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’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 about only one person or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’ll, it’s, he’s, I’m, sh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the word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asn’t, didn’t, isn’t, hasn’t, hadn’t, wouldn’t, shouldn’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dnesday’s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’m made that it is rainning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’m mad that it is raining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 hop it does not last lo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 hope it does not last long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2438280"/>
          <a:ext cx="6096240" cy="3346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eam is like a family.  It’s important that each person supports the others.  What makes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nouns are special names for people, places, animals, or th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examples for proper nouns for these common nou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i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458280"/>
            <a:ext cx="77929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 about a time when you were part of a team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s such as baseball require teams.  How does a team work together?  Today we will read about how creatures in outer space play a game just like people d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s such as baseball require teams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How does a team work together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Today we will read about how creatures in outer space play a game just like people do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01560" y="277956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roper nouns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ding poet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d Family Word – night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nline dictionar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371600" y="18288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r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’ll give bread to that family when it’s r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ll tell me if they heard the whir of crickets in the shady mea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m going to pull that thin white thread off the dark fabr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idn’t break that gingerbread dish on the sh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think he’ll help Dad once in a wh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 listen to that pleasant music Uncle Chuck pl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ursday Fix-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t didnt rain muc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It didn’t rain much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an john be on my team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f01"/>
                </a:solidFill>
                <a:latin typeface="Tahoma"/>
              </a:rPr>
              <a:t>Can John be on my team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da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2590920"/>
          <a:ext cx="6095880" cy="3346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eam is like a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amil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 It’s important that each person supports the others.  What makes a tea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:  Proper Nou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182600" y="2703600"/>
          <a:ext cx="7772400" cy="2743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nald  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 Your Da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eard a story about two brothers and their inventions.  Tomorrow we will hear about the Wright brothers agai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 fun things to do for recreation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600200" y="2209680"/>
          <a:ext cx="6095880" cy="3810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s week we read about people working and playing together.  Teams are formed for recreation and for working.  People contribute to teams and compete with other teams.  What makes a tea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05120" y="2590920"/>
          <a:ext cx="6095880" cy="3809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s week we read about people working and playing together.  Teams are formed for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recre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nd for working.  People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ntribu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eams and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p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other teams.  What makes a tea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raction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-frequency word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ocabulary word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per nouns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ading poet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2720" y="248760"/>
            <a:ext cx="7359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nald Morgan Goes to 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5800" y="2743200"/>
          <a:ext cx="3352680" cy="38466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0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tch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f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ir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419720" y="1371600"/>
          <a:ext cx="3927240" cy="526104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re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r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of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k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9-30T20:30:47Z</dcterms:modified>
  <cp:revision>69</cp:revision>
  <dc:subject/>
  <dc:title>Slide 1</dc:title>
</cp:coreProperties>
</file>